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A62-4D4C-4BFE-A85E-104072A3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EC6-C5F8-4F0C-9A39-F09D0624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4BD-18DB-4754-AD17-9ECBD83A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C68-0EBD-4D16-86ED-90CCB173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DD3-2379-40C4-8296-98988CE4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3C9-ED70-4C5C-B3BF-D976394F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88C-538D-4EC4-BFE4-F395181B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60C-1FCE-406F-AFC6-8C1699EB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602-B544-4BB5-8E17-1DDC3B7F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C18-56AF-4789-982C-EB384207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09F-7DAB-4098-BF7D-C5A7AEA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CF9-D648-41AC-B75C-C0C6FA8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FDD4-F79A-460F-AC5F-6F876AF579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4880" y="476280"/>
            <a:ext cx="8220240" cy="381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БОЛЬШЕМАРЕСЕВСКОЕ СЕЛЬСКОЕ ПОСЕЛЕНИЕ ЧАМЗИНСКОГО МУНИЦИПАЛЬНОГО РАЙОНА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РЕСПУБЛИКИ МОРДОВИЯ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Tahoma"/>
              </a:rPr>
              <a:t>БЮДЖЕТ ДЛЯ ГРАЖДАН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4724280"/>
            <a:ext cx="85690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 Решению Совета депутатов Большемаресевского сельского поселения Чамзинского муниципального района                                                                                              «О бюджете Большемаресевского сельского поселения                                 Чамзинского муниципального района Республики Мордовия                                    на 2025 год и на плановый период 2026 и 2027 годов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асходы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юджета Большемаресевского сельского поселения Чамзинского муниципального района Республики Мордовия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(на душу населения)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773360"/>
          <a:ext cx="8136000" cy="4405320"/>
        </p:xfrm>
        <a:graphic>
          <a:graphicData uri="http://schemas.openxmlformats.org/drawingml/2006/table">
            <a:tbl>
              <a:tblPr/>
              <a:tblGrid>
                <a:gridCol w="3359160"/>
                <a:gridCol w="1069920"/>
                <a:gridCol w="925560"/>
                <a:gridCol w="917640"/>
                <a:gridCol w="936360"/>
                <a:gridCol w="927360"/>
              </a:tblGrid>
              <a:tr h="304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Расходы поселения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рублей/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2023 год (факт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2024 год (план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Прогн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Всего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6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4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3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6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5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4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2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1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5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7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5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7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7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7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04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3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3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6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4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8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d73"/>
            </a:gs>
            <a:gs pos="100000">
              <a:srgbClr val="e393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труктура расходной части бюджета Большемаресевского сельского поселения Чамзинского муниципального района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еспублики Мордовия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 2025 год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150840" y="907920"/>
          <a:ext cx="8842320" cy="53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907920"/>
                    <a:ext cx="88423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d73"/>
            </a:gs>
            <a:gs pos="100000">
              <a:srgbClr val="e393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труктура расходной части бюджета Большемаресевского сельского поселения Чамзинского муниципального района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еспублики Мордовия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 2026 год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-324000" y="1341360"/>
          <a:ext cx="9649080" cy="583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341360"/>
                    <a:ext cx="964908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4d73"/>
            </a:gs>
            <a:gs pos="100000">
              <a:srgbClr val="e393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труктура расходной части бюджета Большемаресевского сельского поселения Чамзинского муниципального района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еспублики Мордовия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 2027 год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426960" y="1066680"/>
          <a:ext cx="892800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066680"/>
                    <a:ext cx="89280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ГРАММНЫЙ БЮДЖЕТ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137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граммный бюджет </a:t>
            </a: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– формирование бюджета поселения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 разрезе муниципальных програм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униципальная программа </a:t>
            </a: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– документ, определяющий цель, задачи и результат,                         основные направления и инструменты государственной политики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направленные на достижение целей и реализацию государственных приоритет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9640" y="263700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ектом решения о бюджете Большемаресевского сельского поселения                  на 2025 год и на плановый период 2026 и 2027 годов                                    предусмотрена реализация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муниципальных програм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3573360"/>
          <a:ext cx="8064360" cy="2903760"/>
        </p:xfrm>
        <a:graphic>
          <a:graphicData uri="http://schemas.openxmlformats.org/drawingml/2006/table">
            <a:tbl>
              <a:tblPr/>
              <a:tblGrid>
                <a:gridCol w="4248000"/>
                <a:gridCol w="1297080"/>
                <a:gridCol w="1368360"/>
                <a:gridCol w="115092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гноз 202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гноз 202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гноз 202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асходы бюджета поселения, тыс. руб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96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56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98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 рамках государственных (целевых) и муниципальных программ, тыс. руб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91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51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93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доля государственных (целевых) и муниципальных программ в общих расходах,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ализация муниципальных программ 2023-2027 годы</a:t>
            </a: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(тыс. рублей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197000"/>
          <a:ext cx="8642160" cy="5425920"/>
        </p:xfrm>
        <a:graphic>
          <a:graphicData uri="http://schemas.openxmlformats.org/drawingml/2006/table">
            <a:tbl>
              <a:tblPr/>
              <a:tblGrid>
                <a:gridCol w="311040"/>
                <a:gridCol w="3938760"/>
                <a:gridCol w="934920"/>
                <a:gridCol w="1081080"/>
                <a:gridCol w="792000"/>
                <a:gridCol w="792360"/>
                <a:gridCol w="792000"/>
              </a:tblGrid>
              <a:tr h="101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именование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сполнено за 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жидаемое исполнение в 2024 го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ноз на 202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ноз на 202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ноз на 202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униципальная программа «Развитие муниципальной службы в Большемаресевском сельском поселении Чамзинского муниципального района Республики Мордови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8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97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7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72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76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униципальная программа «Развитие автомобильных дорог» в Большемаресевском сельском поселении Чамзинского муниципального района Республики Мордови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2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3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3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1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униципальная программа Большемаресевского сельского поселения Чамзинского муниципального района Республики Мордовия "Охрана окружающей среды и повышение экологической безопасности 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униципальная программа «Повышение эффективности управления муниципальными финансами в Большемаресевском сельском поселении Чамзинского муниципального района Республики Мордови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униципальная программа «Профилактика правонарушений на территории Большемаресевского сельского поселени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униципальная программа "Благоустройство территории Большемаресевского сельское поселение Чамзинского муниципального района 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1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17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7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8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8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КОНТАКТНАЯ ИНФОРМАЦ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3"/>
          <p:cNvSpPr/>
          <p:nvPr/>
        </p:nvSpPr>
        <p:spPr>
          <a:xfrm>
            <a:off x="17316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60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ff"/>
                </a:solidFill>
                <a:latin typeface="Tahoma"/>
              </a:rPr>
              <a:t>Адрес: Республика Мордовия, Чамзинский район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ff"/>
                </a:solidFill>
                <a:latin typeface="Tahoma"/>
              </a:rPr>
              <a:t>с. Большое Маресево, ул.Советская, д. 7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ff"/>
                </a:solidFill>
                <a:latin typeface="Tahoma"/>
              </a:rPr>
              <a:t>Телефон: 8-8(3437)-25-14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дрес электронной почты: </a:t>
            </a:r>
            <a:r>
              <a:rPr b="0" lang="en-US" sz="1400" spc="-1" strike="noStrike">
                <a:solidFill>
                  <a:srgbClr val="70ffff"/>
                </a:solidFill>
                <a:latin typeface="Arial"/>
              </a:rPr>
              <a:t>Bmaresevo@e-Mordovia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рафик работы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понедельника по пятницу - с 8-30 до 17-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ббота, воскресенье - выходные дн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денный перерыв - с 13-00 до 14-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Основные параметры бюджета Большемаресевского сельского поселения Чамзинского муниципального района 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Республики Мордовия</a:t>
            </a:r>
            <a:br>
              <a:rPr sz="2000"/>
            </a:b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в 2023-2027 году</a:t>
            </a:r>
            <a:br>
              <a:rPr sz="2800"/>
            </a:b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(тыс.рублей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4000" y="1916280"/>
          <a:ext cx="8362800" cy="4136760"/>
        </p:xfrm>
        <a:graphic>
          <a:graphicData uri="http://schemas.openxmlformats.org/drawingml/2006/table">
            <a:tbl>
              <a:tblPr/>
              <a:tblGrid>
                <a:gridCol w="2303280"/>
                <a:gridCol w="1297080"/>
                <a:gridCol w="1152360"/>
                <a:gridCol w="1224000"/>
                <a:gridCol w="1150920"/>
                <a:gridCol w="123516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Факт 2023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лан 2024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025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026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2027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Доход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293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442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400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361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405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налоговые и неналог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127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1086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2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1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0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166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3336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8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0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5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Расход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339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527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396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356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99"/>
                          </a:solidFill>
                          <a:latin typeface="Tahoma"/>
                        </a:rPr>
                        <a:t>398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Дефицит/ Профи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45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ff"/>
                          </a:solidFill>
                          <a:latin typeface="Tahoma"/>
                        </a:rPr>
                        <a:t>-84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5520" y="420480"/>
            <a:ext cx="8291520" cy="13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оходная часть бюджета Большемаресевского сельского поселения Чамзинского муниципального района Республики Мордовия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 2023-2027 году</a:t>
            </a:r>
            <a:br>
              <a:rPr sz="2400"/>
            </a:br>
            <a:r>
              <a:rPr b="0" lang="ru-RU" sz="1400" spc="-1" strike="noStrike">
                <a:solidFill>
                  <a:srgbClr val="e5ffff"/>
                </a:solidFill>
                <a:latin typeface="Tahoma"/>
              </a:rPr>
              <a:t>(тыс.рублей)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6" name="Объект 6"/>
          <p:cNvGraphicFramePr/>
          <p:nvPr/>
        </p:nvGraphicFramePr>
        <p:xfrm>
          <a:off x="-117360" y="1690560"/>
          <a:ext cx="9713880" cy="453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7360" y="1690560"/>
                    <a:ext cx="97138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539640" y="404640"/>
            <a:ext cx="80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Структура налоговых доходов </a:t>
            </a:r>
            <a:br>
              <a:rPr sz="2000"/>
            </a:b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бюджета Большемаресевского сельского поселения Чамзинского муниципального района Республики Мордовия на 2025 г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Диаграмма 3"/>
          <p:cNvGraphicFramePr/>
          <p:nvPr/>
        </p:nvGraphicFramePr>
        <p:xfrm>
          <a:off x="-566640" y="1577880"/>
          <a:ext cx="10277280" cy="477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66640" y="1577880"/>
                    <a:ext cx="10277280" cy="47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Структура налоговых доходов </a:t>
            </a:r>
            <a:br>
              <a:rPr sz="2000"/>
            </a:b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бюджета Большемаресевского сельского поселения Чамзинского муниципального района Республики Мордовия на 2026 год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2" name="Диаграмма 3"/>
          <p:cNvGraphicFramePr/>
          <p:nvPr/>
        </p:nvGraphicFramePr>
        <p:xfrm>
          <a:off x="179280" y="1752480"/>
          <a:ext cx="8904240" cy="45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52480"/>
                    <a:ext cx="890424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Структура налоговых доходов </a:t>
            </a:r>
            <a:br>
              <a:rPr sz="2000"/>
            </a:b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бюджета Большемаресевского сельского поселения Чамзинского муниципального района Республики Мордовия на 2027 год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5" name="Диаграмма 3"/>
          <p:cNvGraphicFramePr/>
          <p:nvPr/>
        </p:nvGraphicFramePr>
        <p:xfrm>
          <a:off x="184320" y="1720800"/>
          <a:ext cx="8775360" cy="457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720800"/>
                    <a:ext cx="877536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ahoma"/>
              </a:rPr>
              <a:t>БЕЗВОЗМЕЗДНЫЕ ПОСТУПЛЕНИЯ </a:t>
            </a:r>
            <a:br>
              <a:rPr sz="2000"/>
            </a:br>
            <a:r>
              <a:rPr b="1" lang="ru-RU" sz="2000" spc="-1" strike="noStrike">
                <a:solidFill>
                  <a:srgbClr val="161616"/>
                </a:solidFill>
                <a:latin typeface="Tahoma"/>
              </a:rPr>
              <a:t>БОЛЬШЕМАРЕСЕВСКОГО СЕЛЬСКОГО ПОСЕЛЕНИЯ ЧАМЗИНСКОГО МУНИЦИПАЛЬНОГО РАЙОНА </a:t>
            </a:r>
            <a:br>
              <a:rPr sz="2000"/>
            </a:br>
            <a:r>
              <a:rPr b="1" lang="ru-RU" sz="2000" spc="-1" strike="noStrike">
                <a:solidFill>
                  <a:srgbClr val="161616"/>
                </a:solidFill>
                <a:latin typeface="Tahoma"/>
              </a:rPr>
              <a:t>РЕСПУБЛИКИ МОРДОВИЯ </a:t>
            </a:r>
            <a:br>
              <a:rPr sz="2000"/>
            </a:br>
            <a:r>
              <a:rPr b="1" lang="ru-RU" sz="2000" spc="-1" strike="noStrike">
                <a:solidFill>
                  <a:srgbClr val="161616"/>
                </a:solidFill>
                <a:latin typeface="Tahoma"/>
              </a:rPr>
              <a:t>НА 2023-2027 ГОД</a:t>
            </a:r>
            <a:br>
              <a:rPr sz="2000"/>
            </a:br>
            <a:r>
              <a:rPr b="1" lang="ru-RU" sz="1200" spc="-1" strike="noStrike">
                <a:solidFill>
                  <a:srgbClr val="e5ffff"/>
                </a:solidFill>
                <a:latin typeface="Tahoma"/>
              </a:rPr>
              <a:t>(тыс.рублей)</a:t>
            </a:r>
            <a:endParaRPr b="0" lang="en-US" sz="1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-133200" y="1978200"/>
          <a:ext cx="8894520" cy="43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3200" y="1978200"/>
                    <a:ext cx="889452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РАСХОДЫ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юджета Большемаресевского сельского поселения Чамзинского муниципального района Республики Мордовия по разделам классификации операций сектора государственного управления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 2023-2027 годах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557360"/>
          <a:ext cx="8785440" cy="5099040"/>
        </p:xfrm>
        <a:graphic>
          <a:graphicData uri="http://schemas.openxmlformats.org/drawingml/2006/table">
            <a:tbl>
              <a:tblPr/>
              <a:tblGrid>
                <a:gridCol w="2664000"/>
                <a:gridCol w="936720"/>
                <a:gridCol w="1008000"/>
                <a:gridCol w="1008000"/>
                <a:gridCol w="1008000"/>
                <a:gridCol w="1081080"/>
                <a:gridCol w="1079640"/>
              </a:tblGrid>
              <a:tr h="21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Наименование расх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3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ты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Прогн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39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27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27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96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6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98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4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2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2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5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8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1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в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4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9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8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в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в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2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3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3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0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3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1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в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3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7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17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7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3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7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в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4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4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РАСХОДЫ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юджета Большемаресевского сельского поселения Чамзинского муниципального района Республики Мордовия по разделам классификации операций сектора государственного управления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 2023-2027 годах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1628640"/>
          <a:ext cx="8692920" cy="4780080"/>
        </p:xfrm>
        <a:graphic>
          <a:graphicData uri="http://schemas.openxmlformats.org/drawingml/2006/table">
            <a:tbl>
              <a:tblPr/>
              <a:tblGrid>
                <a:gridCol w="2011320"/>
                <a:gridCol w="1171440"/>
                <a:gridCol w="1339920"/>
                <a:gridCol w="1073160"/>
                <a:gridCol w="1081080"/>
                <a:gridCol w="1008000"/>
                <a:gridCol w="1008000"/>
              </a:tblGrid>
              <a:tr h="393480"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Наименование расх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3 г.  (фак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Прогн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в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3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3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9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1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в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0,</a:t>
                      </a: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в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2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в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e5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9T13:30:15Z</dcterms:created>
  <dc:creator>user</dc:creator>
  <dc:description/>
  <dc:language>en-US</dc:language>
  <cp:lastModifiedBy>Rahmankullova</cp:lastModifiedBy>
  <cp:lastPrinted>2020-12-21T13:53:07Z</cp:lastPrinted>
  <dcterms:modified xsi:type="dcterms:W3CDTF">2024-12-11T12:09:40Z</dcterms:modified>
  <cp:revision>266</cp:revision>
  <dc:subject/>
  <dc:title>Презентация PowerPoint</dc:title>
</cp:coreProperties>
</file>